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34C0-4964-4665-ADE2-8653AC32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0A7-35AB-4466-958A-8FD923F7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DE3-5A0F-4426-925D-D5C46F1E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A150-80DD-411F-A268-12AE32522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DF4E-E17A-4B29-A1F7-F9B98CAC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996-317C-4F11-865E-369FBE9A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FF3-3AE2-4D45-B851-17B83C3B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0B7-63C0-4A2E-9ECA-F316193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FDC-C068-4F97-BE0D-58A98B2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2C6-21AB-4DE2-B41F-0786B940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248-9EBD-40A1-935C-87D5F95F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28D-E3C3-49ED-95FC-AAFB4C5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1D0-9B45-4B8A-A04F-B2839DF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3BA-D621-46F8-B98E-7AE89331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034-E1AE-47B2-A602-2B35C00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573-B517-4E35-901B-3291ED4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29F-C2EE-48B1-BE84-CE25872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BB-C9D4-4B8A-93EE-A02BF7A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727-3E44-4BFC-A2CF-9D087E4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263B-64CC-48F2-9D7E-2417DB92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6"/>
          <p:cNvSpPr/>
          <p:nvPr/>
        </p:nvSpPr>
        <p:spPr>
          <a:xfrm>
            <a:off x="611280" y="1841400"/>
            <a:ext cx="7389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a common understanding of good paragraph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6"/>
          <p:cNvSpPr/>
          <p:nvPr/>
        </p:nvSpPr>
        <p:spPr>
          <a:xfrm>
            <a:off x="611280" y="1371600"/>
            <a:ext cx="7389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graph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a paragraph to show your underst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op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para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"/>
          <p:cNvSpPr/>
          <p:nvPr/>
        </p:nvSpPr>
        <p:spPr>
          <a:xfrm>
            <a:off x="611280" y="1371600"/>
            <a:ext cx="738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onents of a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tatement or Topic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s/summarises main idea of the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upporting Details (Explanation and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etails to develop and support main idea of the paragraph eg facts,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losing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ates / ‘rounds off’ main idea of paragraph. Establish link to next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066680" y="1523880"/>
            <a:ext cx="6632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6"/>
          <p:cNvSpPr/>
          <p:nvPr/>
        </p:nvSpPr>
        <p:spPr>
          <a:xfrm>
            <a:off x="611280" y="1371600"/>
            <a:ext cx="73897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graph Wri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X / SEE – Statement / Explanation /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ED - Statement / Explanation / Example /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EED - Statement / Explanation / Example /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PE – Assertion / Proof /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e Effective Literacy Strategies page 140 for mo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828800" y="1295280"/>
            <a:ext cx="2400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066680" y="1143000"/>
            <a:ext cx="6632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96003f"/>
                </a:solidFill>
                <a:latin typeface="Arial Narrow"/>
                <a:ea typeface="Arial Narro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  <a:ea typeface="Arial Narrow"/>
              </a:rPr>
              <a:t>Writi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457200" y="380880"/>
          <a:ext cx="1754280" cy="525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1754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6"/>
          <p:cNvSpPr/>
          <p:nvPr/>
        </p:nvSpPr>
        <p:spPr>
          <a:xfrm>
            <a:off x="762120" y="2209680"/>
            <a:ext cx="7772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stages – pre-writing, writing, editing, publishing/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4 modes as much as possible – speaking, reading, writing,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caffold ………..  Remove scaf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752480" y="1219320"/>
            <a:ext cx="3429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971640" y="1773360"/>
            <a:ext cx="6804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246480" y="5673600"/>
            <a:ext cx="2894040" cy="122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6229440" y="5689440"/>
            <a:ext cx="2822400" cy="119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204840" y="5673600"/>
            <a:ext cx="2895480" cy="1222560"/>
          </a:xfrm>
          <a:prstGeom prst="rect">
            <a:avLst/>
          </a:prstGeom>
          <a:ln w="0">
            <a:noFill/>
          </a:ln>
        </p:spPr>
      </p:pic>
      <p:pic>
        <p:nvPicPr>
          <p:cNvPr id="88" name="04 Track 04-2" descr="04 Track 04-2"/>
          <p:cNvPicPr/>
          <p:nvPr/>
        </p:nvPicPr>
        <p:blipFill>
          <a:blip r:embed="rId4"/>
          <a:stretch/>
        </p:blipFill>
        <p:spPr>
          <a:xfrm>
            <a:off x="206280" y="6093000"/>
            <a:ext cx="6066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8"/>
          <p:cNvGraphicFramePr/>
          <p:nvPr/>
        </p:nvGraphicFramePr>
        <p:xfrm>
          <a:off x="7886880" y="206280"/>
          <a:ext cx="942840" cy="652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86880" y="206280"/>
                    <a:ext cx="94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9"/>
          <p:cNvGraphicFramePr/>
          <p:nvPr/>
        </p:nvGraphicFramePr>
        <p:xfrm>
          <a:off x="208080" y="206280"/>
          <a:ext cx="1753920" cy="525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080" y="206280"/>
                    <a:ext cx="17539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1"/>
          <p:cNvSpPr/>
          <p:nvPr/>
        </p:nvSpPr>
        <p:spPr>
          <a:xfrm>
            <a:off x="546120" y="1700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 Black"/>
              </a:rPr>
              <a:t>What are the implications for my practice / dep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 Black"/>
              </a:rPr>
              <a:t>What are my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44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268360" y="981000"/>
            <a:ext cx="43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88100b"/>
                </a:solidFill>
                <a:latin typeface="Arial Black"/>
              </a:rPr>
              <a:t>Reflectiv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32:59Z</dcterms:created>
  <dc:creator>kane</dc:creator>
  <dc:description/>
  <dc:language>en-US</dc:language>
  <cp:lastModifiedBy>Siliva Gaugatao</cp:lastModifiedBy>
  <cp:lastPrinted>2012-07-31T21:20:52Z</cp:lastPrinted>
  <dcterms:modified xsi:type="dcterms:W3CDTF">2012-11-30T02:19:54Z</dcterms:modified>
  <cp:revision>408</cp:revision>
  <dc:subject/>
  <dc:title>Slide 1</dc:title>
</cp:coreProperties>
</file>